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906B-5667-461C-B370-51B0E5E22D5B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sed Design to Manufacture Conformance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ed with a review of CIS/1 DEP1+DEP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ilar in scope (and quite widely implement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dentified a number of key LPM/5 entities that must be inclu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LPM/5 has the potential to address very complex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to pitch on the entity subtype structur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igated prior to the Generic CCs being fully def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ome re-engineering to allow these to be demonstr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y staged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1 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2 plus Load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3 plus Structural Respon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4 plus Decom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ull set of unit related entities where included at th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ing Excel Spreadshee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23880" y="1828800"/>
          <a:ext cx="5867640" cy="426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28800"/>
                    <a:ext cx="586764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523880" y="6095880"/>
            <a:ext cx="586764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ing Excel Spreadshee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76520" y="2057400"/>
            <a:ext cx="5790960" cy="4114800"/>
            <a:chOff x="1676520" y="2057400"/>
            <a:chExt cx="5790960" cy="4114800"/>
          </a:xfrm>
        </p:grpSpPr>
        <p:graphicFrame>
          <p:nvGraphicFramePr>
            <p:cNvPr id="90" name=""/>
            <p:cNvGraphicFramePr/>
            <p:nvPr/>
          </p:nvGraphicFramePr>
          <p:xfrm>
            <a:off x="1676520" y="2057400"/>
            <a:ext cx="5790960" cy="4095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76520" y="2057400"/>
                      <a:ext cx="5790960" cy="409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1676520" y="6172200"/>
              <a:ext cx="5790960" cy="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2856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How, in Greater Detail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 choice of Generic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justed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0480" y="2513160"/>
            <a:ext cx="63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nitial choice of Generic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adjusted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ed assembling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pected LPM/5.html to identify some key 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y generic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t a skeletal short form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5160" y="1979640"/>
            <a:ext cx="8059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nod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section_properti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xplain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h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D&gt;M CC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as been assemb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show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ho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t has been assemb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dicat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included                   (and what is exclu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Refinement Cyc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2040" y="276876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536200" y="1650960"/>
            <a:ext cx="4098240" cy="4647600"/>
            <a:chOff x="2536200" y="1650960"/>
            <a:chExt cx="4098240" cy="4647600"/>
          </a:xfrm>
        </p:grpSpPr>
        <p:sp>
          <p:nvSpPr>
            <p:cNvPr id="106" name=""/>
            <p:cNvSpPr/>
            <p:nvPr/>
          </p:nvSpPr>
          <p:spPr>
            <a:xfrm>
              <a:off x="4727160" y="2743200"/>
              <a:ext cx="190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Long For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536200" y="1650960"/>
              <a:ext cx="3656160" cy="4647600"/>
              <a:chOff x="2536200" y="1650960"/>
              <a:chExt cx="3656160" cy="4647600"/>
            </a:xfrm>
          </p:grpSpPr>
          <p:sp>
            <p:nvSpPr>
              <p:cNvPr id="108" name=""/>
              <p:cNvSpPr/>
              <p:nvPr/>
            </p:nvSpPr>
            <p:spPr>
              <a:xfrm>
                <a:off x="2536200" y="2184120"/>
                <a:ext cx="365616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475" y="2864"/>
                    </a:moveTo>
                    <a:arcTo wR="10800" hR="10800" stAng="-7962564" swAng="53334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475" y="2864"/>
                    </a:moveTo>
                    <a:arcTo wR="10800" hR="10800" stAng="-7962564" swAng="533342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734640" y="165096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Genera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2057040" y="2218680"/>
            <a:ext cx="5508360" cy="3655080"/>
            <a:chOff x="2057040" y="2218680"/>
            <a:chExt cx="5508360" cy="3655080"/>
          </a:xfrm>
        </p:grpSpPr>
        <p:sp>
          <p:nvSpPr>
            <p:cNvPr id="111" name=""/>
            <p:cNvSpPr/>
            <p:nvPr/>
          </p:nvSpPr>
          <p:spPr>
            <a:xfrm>
              <a:off x="5336280" y="47242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htm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057040" y="2218680"/>
              <a:ext cx="5508360" cy="3655080"/>
              <a:chOff x="2057040" y="2218680"/>
              <a:chExt cx="5508360" cy="3655080"/>
            </a:xfrm>
          </p:grpSpPr>
          <p:sp>
            <p:nvSpPr>
              <p:cNvPr id="113" name=""/>
              <p:cNvSpPr/>
              <p:nvPr/>
            </p:nvSpPr>
            <p:spPr>
              <a:xfrm flipH="1" flipV="1" rot="16200000">
                <a:off x="2286360" y="1988640"/>
                <a:ext cx="365508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701" y="808"/>
                    </a:moveTo>
                    <a:arcTo wR="10800" hR="10800" stAng="-6738406" swAng="28033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701" y="808"/>
                    </a:moveTo>
                    <a:arcTo wR="10800" hR="10800" stAng="-6738406" swAng="2803321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249240" y="373392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Genera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2212200" y="1676520"/>
            <a:ext cx="3982680" cy="4574520"/>
            <a:chOff x="2212200" y="1676520"/>
            <a:chExt cx="3982680" cy="4574520"/>
          </a:xfrm>
        </p:grpSpPr>
        <p:sp>
          <p:nvSpPr>
            <p:cNvPr id="116" name=""/>
            <p:cNvSpPr/>
            <p:nvPr/>
          </p:nvSpPr>
          <p:spPr>
            <a:xfrm>
              <a:off x="2212200" y="4724280"/>
              <a:ext cx="20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LPM/5 htm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2539440" y="1676520"/>
              <a:ext cx="3655440" cy="4574520"/>
              <a:chOff x="2539440" y="1676520"/>
              <a:chExt cx="3655440" cy="4574520"/>
            </a:xfrm>
          </p:grpSpPr>
          <p:sp>
            <p:nvSpPr>
              <p:cNvPr id="118" name=""/>
              <p:cNvSpPr/>
              <p:nvPr/>
            </p:nvSpPr>
            <p:spPr>
              <a:xfrm rot="10800000">
                <a:off x="2539440" y="1676520"/>
                <a:ext cx="365544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475" y="2864"/>
                    </a:moveTo>
                    <a:arcTo wR="10800" hR="10800" stAng="-7962564" swAng="53334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475" y="2864"/>
                    </a:moveTo>
                    <a:arcTo wR="10800" hR="10800" stAng="-7962564" swAng="533342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headEnd len="med" type="stealth" w="lg"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736080" y="5791320"/>
                <a:ext cx="131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Compar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1523880" y="2205000"/>
            <a:ext cx="5181480" cy="3655080"/>
            <a:chOff x="1523880" y="2205000"/>
            <a:chExt cx="5181480" cy="3655080"/>
          </a:xfrm>
        </p:grpSpPr>
        <p:sp>
          <p:nvSpPr>
            <p:cNvPr id="121" name=""/>
            <p:cNvSpPr/>
            <p:nvPr/>
          </p:nvSpPr>
          <p:spPr>
            <a:xfrm rot="16200000">
              <a:off x="2820600" y="1975320"/>
              <a:ext cx="3655080" cy="411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01" y="808"/>
                  </a:moveTo>
                  <a:arcTo wR="10800" hR="10800" stAng="-6738406" swAng="28033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701" y="808"/>
                  </a:moveTo>
                  <a:arcTo wR="10800" hR="10800" stAng="-6738406" swAng="2803321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388620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Refi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Refinement Cyc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2040" y="276876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7160" y="2743200"/>
            <a:ext cx="19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Long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36200" y="2184480"/>
            <a:ext cx="365616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5" y="2864"/>
                </a:moveTo>
                <a:arcTo wR="10800" hR="10800" stAng="-7962564" swAng="5333427"/>
                <a:lnTo>
                  <a:pt x="10800" y="10800"/>
                </a:lnTo>
                <a:close/>
              </a:path>
              <a:path fill="none" w="21600" h="21600">
                <a:moveTo>
                  <a:pt x="3475" y="2864"/>
                </a:moveTo>
                <a:arcTo wR="10800" hR="10800" stAng="-7962564" swAng="5333427"/>
              </a:path>
            </a:pathLst>
          </a:custGeom>
          <a:noFill/>
          <a:ln w="76320">
            <a:solidFill>
              <a:srgbClr val="96969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4640" y="165096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Gene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6280" y="47242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 rot="16200000">
            <a:off x="2286360" y="1988640"/>
            <a:ext cx="365508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701" y="808"/>
                </a:moveTo>
                <a:arcTo wR="10800" hR="10800" stAng="-6738406" swAng="2803321"/>
                <a:lnTo>
                  <a:pt x="10800" y="10800"/>
                </a:lnTo>
                <a:close/>
              </a:path>
              <a:path fill="none" w="21600" h="21600">
                <a:moveTo>
                  <a:pt x="6701" y="808"/>
                </a:moveTo>
                <a:arcTo wR="10800" hR="10800" stAng="-6738406" swAng="2803321"/>
              </a:path>
            </a:pathLst>
          </a:custGeom>
          <a:noFill/>
          <a:ln w="76320">
            <a:solidFill>
              <a:srgbClr val="96969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9240" y="37339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Gene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12200" y="472428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LPM/5 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2539440" y="1676520"/>
            <a:ext cx="36554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5" y="2864"/>
                </a:moveTo>
                <a:arcTo wR="10800" hR="10800" stAng="-7962564" swAng="5333427"/>
                <a:lnTo>
                  <a:pt x="10800" y="10800"/>
                </a:lnTo>
                <a:close/>
              </a:path>
              <a:path fill="none" w="21600" h="21600">
                <a:moveTo>
                  <a:pt x="3475" y="2864"/>
                </a:moveTo>
                <a:arcTo wR="10800" hR="10800" stAng="-7962564" swAng="5333427"/>
              </a:path>
            </a:pathLst>
          </a:custGeom>
          <a:noFill/>
          <a:ln w="76320">
            <a:solidFill>
              <a:srgbClr val="969696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36080" y="579132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Comp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23880" y="2205000"/>
            <a:ext cx="5181480" cy="3655080"/>
            <a:chOff x="1523880" y="2205000"/>
            <a:chExt cx="5181480" cy="3655080"/>
          </a:xfrm>
        </p:grpSpPr>
        <p:sp>
          <p:nvSpPr>
            <p:cNvPr id="135" name=""/>
            <p:cNvSpPr/>
            <p:nvPr/>
          </p:nvSpPr>
          <p:spPr>
            <a:xfrm rot="16200000">
              <a:off x="2820600" y="1975320"/>
              <a:ext cx="3655080" cy="411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01" y="808"/>
                  </a:moveTo>
                  <a:arcTo wR="10800" hR="10800" stAng="-6738406" swAng="28033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701" y="808"/>
                  </a:moveTo>
                  <a:arcTo wR="10800" hR="10800" stAng="-6738406" swAng="2803321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23880" y="388620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Refi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819520" y="3470400"/>
            <a:ext cx="280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Add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4038480"/>
            <a:ext cx="32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Refine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rate round refinement cycle fo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ine CC short form: add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r long form comple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: 1 of 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node_connectivit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: 2 of 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1560" y="1979640"/>
            <a:ext cx="349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group_of_analysis_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i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d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_proper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tep_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terate round refinement cycle for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Refine CC short form: add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for long form comple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ine CC short form: refine the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r long form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stitute more specialised entit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information pay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narrow the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e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b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duces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b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maintains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3276720"/>
            <a:ext cx="297180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90720" y="2666880"/>
          <a:ext cx="7078680" cy="34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66880"/>
                    <a:ext cx="70786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069920" y="20574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ff"/>
                </a:solidFill>
                <a:latin typeface="Arial"/>
              </a:rPr>
              <a:t>Expresso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: [Tools][Entity Graph]: analysis_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4419720"/>
            <a:ext cx="129564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2560" y="1295280"/>
            <a:ext cx="7485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UPERTYPE OF (ONE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ANALYSIS_MODEL_LOCAT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ANALYSIS_MODEL_CHIL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name : LAB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description : OPTIONAL TEX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type : FRAME_TYP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hod_of_analysis : OPTIONAL ANALYSIS_METHO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ordinate_space_dimension : DIMENSION_COUN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onent_elements : SET [1:?] OF EL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parent_mod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onent_nodes : SET [2:?] OF N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parent_mod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1480" y="1600200"/>
            <a:ext cx="8503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2 : SELF\ANALYSIS_MODEL.coordinate_space_dimension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3 : 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LANE_FR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LANE_TRUS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ILLAG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4 : SELF\ANALYSIS_MODEL.coordinate_space_dimension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5 : 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PACE_FR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PACE_TRUS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47560" y="3429000"/>
            <a:ext cx="119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0480" y="1320840"/>
            <a:ext cx="8061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analysis_model_chi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ffff"/>
                </a:solidFill>
                <a:latin typeface="Arial"/>
              </a:rPr>
              <a:t>parent_model : ANALYSIS_MODE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6 : parent_model :&lt;&gt;: (SELF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7 : SELF\ANALYSIS_MODEL.coordinate_space_dimension &lt;=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.coordinate_space_dimensio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analysis_model_loc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ffff"/>
                </a:solidFill>
                <a:latin typeface="Arial"/>
              </a:rPr>
              <a:t>model_coord_sys : COORD_SYSTE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8 : SELF\ANALYSIS_MODEL.coordinate_space_dimension &lt;=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del_coord_sys.coord_system_dimensional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974000" y="3276720"/>
            <a:ext cx="101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3581280"/>
            <a:ext cx="228600" cy="60984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4800600"/>
            <a:ext cx="236232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4680" y="1219320"/>
            <a:ext cx="84848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ERTYPE OF (ONE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ELEMENT_VOLUM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SURFAC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ELEMENT_CURV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POINT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description : OPTIONAL TEX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 : ANALYSIS_MOD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dimensionality : INTEG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subdivision : OPTIONAL INTEG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ivity : SET [1:?] OF ELEMENT_NODE_CONNECTIVITY F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QUE                                                                                   connecting_elemen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RE1 : element_name, parent_mod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E2 : element_dimensionality &lt;= parent_model.coordinate_space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                                                                                         dimensio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2200" y="1523880"/>
            <a:ext cx="6558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lement_cur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ERTYPE OF (ONEOF(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CURVE_SIMP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MENT_CURVE_COMPLEX)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E3 : SELF\ELEMENT.element_dimensionality =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6440" y="3657600"/>
            <a:ext cx="891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curve_simp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_CURV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ss_section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ECTION_PROFI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ment_orientation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TION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LANE_ANGLE_MEASURE_WITH_UNI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1840" y="5334120"/>
            <a:ext cx="438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erial_definition 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ERI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curve_simp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95288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unctionality Constrain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62120" y="1981080"/>
          <a:ext cx="8173800" cy="38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817380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819520" y="3962520"/>
            <a:ext cx="16002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49440" y="3225960"/>
            <a:ext cx="16002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CHEMA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ethod_stat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5486400"/>
            <a:ext cx="3429000" cy="380880"/>
          </a:xfrm>
          <a:prstGeom prst="wedgeRoundRectCallout">
            <a:avLst>
              <a:gd name="adj1" fmla="val -78888"/>
              <a:gd name="adj2" fmla="val -21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5520" y="1979640"/>
            <a:ext cx="483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logic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skewed,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spring_line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curve_simp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eccentricit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with_materi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_of_analysis_dat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_elastic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_isotrop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d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14800" y="5867280"/>
            <a:ext cx="3429000" cy="381240"/>
          </a:xfrm>
          <a:prstGeom prst="wedgeRoundRectCallout">
            <a:avLst>
              <a:gd name="adj1" fmla="val -63333"/>
              <a:gd name="adj2" fmla="val -153333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1600200"/>
            <a:ext cx="3429000" cy="380880"/>
          </a:xfrm>
          <a:prstGeom prst="wedgeRoundRectCallout">
            <a:avLst>
              <a:gd name="adj1" fmla="val -38518"/>
              <a:gd name="adj2" fmla="val 11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4038480"/>
            <a:ext cx="3429000" cy="381240"/>
          </a:xfrm>
          <a:prstGeom prst="wedgeRoundRectCallout">
            <a:avLst>
              <a:gd name="adj1" fmla="val -86296"/>
              <a:gd name="adj2" fmla="val -14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e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502920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2133720"/>
            <a:ext cx="152280" cy="990360"/>
          </a:xfrm>
          <a:custGeom>
            <a:avLst/>
            <a:gdLst>
              <a:gd name="textAreaLeft" fmla="*/ 0 w 152280"/>
              <a:gd name="textAreaRight" fmla="*/ 106920 w 152280"/>
              <a:gd name="textAreaTop" fmla="*/ 41040 h 990360"/>
              <a:gd name="textAreaBottom" fmla="*/ 9493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Why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94800" y="1979640"/>
            <a:ext cx="4681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_logic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_spring_line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ang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channe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circle_hollow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i_typ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rectangle_hollow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t_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_proper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_fil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1752480"/>
            <a:ext cx="3429000" cy="381240"/>
          </a:xfrm>
          <a:prstGeom prst="wedgeRoundRectCallout">
            <a:avLst>
              <a:gd name="adj1" fmla="val -54074"/>
              <a:gd name="adj2" fmla="val 12666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5410080"/>
            <a:ext cx="3429000" cy="381240"/>
          </a:xfrm>
          <a:prstGeom prst="wedgeRoundRectCallout">
            <a:avLst>
              <a:gd name="adj1" fmla="val -45555"/>
              <a:gd name="adj2" fmla="val -213333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functionality ret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2743200"/>
            <a:ext cx="228600" cy="2209680"/>
          </a:xfrm>
          <a:custGeom>
            <a:avLst/>
            <a:gdLst>
              <a:gd name="textAreaLeft" fmla="*/ 0 w 228600"/>
              <a:gd name="textAreaRight" fmla="*/ 160560 w 228600"/>
              <a:gd name="textAreaTop" fmla="*/ 91800 h 2209680"/>
              <a:gd name="textAreaBottom" fmla="*/ 21178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62520" y="2133720"/>
            <a:ext cx="228600" cy="60948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peat for CC50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as the starting point to built a skeletal short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CC502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0480" y="1822320"/>
            <a:ext cx="761328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CHEMA LPM5_CC502; --   + Loa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FROM STRUCTURAL_FRAME_SCHEMA ( -- "Structural Modelling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list-of-entitie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ing_combination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pplied_loa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_elemen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_cas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peat for CC50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C501</a:t>
            </a: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 used as the starting point to built a skeletal short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rate round the CC refinement 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and refine entit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2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7000" y="1828800"/>
            <a:ext cx="7191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CHEMA LPM5_CC502; --   + Lo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ing_combin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pplied_load_static_displacement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pplied_load_static_for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concentrate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distributed_curve_lin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therm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nod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cas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combination_occurr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4038480"/>
            <a:ext cx="228600" cy="838440"/>
          </a:xfrm>
          <a:custGeom>
            <a:avLst/>
            <a:gdLst>
              <a:gd name="textAreaLeft" fmla="*/ 0 w 228600"/>
              <a:gd name="textAreaRight" fmla="*/ 160560 w 22860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3429000"/>
            <a:ext cx="228600" cy="533520"/>
          </a:xfrm>
          <a:custGeom>
            <a:avLst/>
            <a:gdLst>
              <a:gd name="textAreaLeft" fmla="*/ 0 w 228600"/>
              <a:gd name="textAreaRight" fmla="*/ 160560 w 22860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e the Task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to buil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to buil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mposi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hecked 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02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all units) add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generated fro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3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42040" y="1828800"/>
            <a:ext cx="77292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CHEMA LPM5_CC503; --   +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ctural Respon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FROM STRUCTURAL_FRAME_SCHEMA (  -- "Structural Response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s_set_combin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s_set_envelop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_element_curv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_no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displac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equilibrium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for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3352680"/>
            <a:ext cx="228600" cy="762120"/>
          </a:xfrm>
          <a:custGeom>
            <a:avLst/>
            <a:gdLst>
              <a:gd name="textAreaLeft" fmla="*/ 0 w 228600"/>
              <a:gd name="textAreaRight" fmla="*/ 160560 w 22860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4191120"/>
            <a:ext cx="228600" cy="761760"/>
          </a:xfrm>
          <a:custGeom>
            <a:avLst/>
            <a:gdLst>
              <a:gd name="textAreaLeft" fmla="*/ 0 w 228600"/>
              <a:gd name="textAreaRight" fmla="*/ 160560 w 22860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5840" y="1676520"/>
            <a:ext cx="8593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LPM5_CC504; -- Design to Manufa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USE FROM LPM5_CC029; -- all un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-- "Structural Modell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 -- "Structural Response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4600" y="1231920"/>
            <a:ext cx="8076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- "Decomposi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fra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chil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member_linear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connection_intern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connection_extern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ma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relationshi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esign_criteri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esign_par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2819520"/>
            <a:ext cx="228600" cy="1371600"/>
          </a:xfrm>
          <a:custGeom>
            <a:avLst/>
            <a:gdLst>
              <a:gd name="textAreaLeft" fmla="*/ 0 w 228600"/>
              <a:gd name="textAreaRight" fmla="*/ 160560 w 22860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457200" y="1828800"/>
          <a:ext cx="8229600" cy="42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229600" cy="42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unctionality Constrain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3276720"/>
            <a:ext cx="647712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32240" y="480060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3080" y="35812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19800" y="40384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19800" y="38098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19800" y="3657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n as being an “electronic framing pla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pe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at information which (should be) passed from the Designer to the Manufacture’s Deta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-designed member sizes and gr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lo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fficient” engineering (design)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1231920"/>
            <a:ext cx="4064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sign_result_connec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sign_result_memb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effective_buckling_leng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functional_ro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group_of_design_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straint_logical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straint_spr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00400" y="350532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1752480"/>
            <a:ext cx="228600" cy="60984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What is Included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posed Scope of each CC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study distributed copy of spreadshe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 also distribute a structured list of the entities excluded from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reviewed in item 3.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tially a very useful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nty of scope for different views 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hat information should be inclu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how complex a structure to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shop participants should be able to relate to this particular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k to the practical workshop sessions using the Case Stu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pe to elicit informative discussion on the boundaries of the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orkshop item 3.1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onsensus on an initial CC in this are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otential focus for early CIS/2 implementati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pe is non-triv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can be viewed in sli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m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How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4T06:28:26Z</dcterms:modified>
  <cp:revision>46</cp:revision>
  <dc:subject/>
  <dc:title>AISC CIS/2  Workshop #I</dc:title>
</cp:coreProperties>
</file>